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7A6-8493-4881-908C-CAD813FE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C28-2666-4F70-914E-3C947AF9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F51-678F-4F89-B858-73F2B875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DDC-8FB9-4B96-B13A-35FE249D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68D-1F56-4C34-A40E-F9EC76D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812-0BE8-4036-82A4-5B24627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FBD-64BE-43B1-8689-B392DE3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580-9BCD-40EC-B25D-070BDB3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786-9E88-45B2-9567-1DC09B4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232-617C-4250-916F-FDB2F0D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CC7-0B0D-43F0-87E0-16B7CD1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B2D-60DB-4BD7-9F56-27EDE8F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AF3-4B62-4A7B-81EB-652C7C15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osusurvey09.wordpress.com&amp;url=http%3A%2F%2F95820daa-a0c5-4ec1-b66b-5d8f11bbc11b%2Fapplication.pdf&amp;sref=http%3A%2F%2Fosusurvey09.wordpress.com%2F2009%2F12%2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hillipscollection.org/migration_series/flash/experience.cf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Art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town Negroes were leaving by the Hundreds to go North and enter into Northern industry.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From every southern town migrants left by hundreds to travel n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ryp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grants moved to Pittsburgh, which was a great industrial center at the time."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e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37, Many migrants found work in the stee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571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semer Process for St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52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31…in the North, there was improved housing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lem City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gl352.pbworks.com/f/HarlemRenstreetscen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07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59, In the North they had the freedom to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63244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3441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49…They found discrimination in the North. It was a differen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chris32.files.wordpress.com/2009/11/discrimin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298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-called “Second Great Migration” took place during World War II (194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frican-Americans moved North to find war industry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so moved westward to places like California for war-related industrial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illipscollection.org/migration_series/flash/experience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Migr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Migration took place during World War I (approx 1917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African-Americans moved from their homes in the South to new hom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ur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sons would African-Americans have to leave the 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ere did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life like for them in their new h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Migration S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anel No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07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 17, “Tenant farmers received harsh treatment at the hands of plant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1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croppers in Ala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ofalabam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nant farmers in Eutaw County hoe their cotton fields in July 1936. The image was "/>
          <p:cNvPicPr/>
          <p:nvPr/>
        </p:nvPicPr>
        <p:blipFill>
          <a:blip r:embed="rId1"/>
          <a:stretch/>
        </p:blipFill>
        <p:spPr>
          <a:xfrm>
            <a:off x="1752480" y="1523880"/>
            <a:ext cx="5330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25, They left their homes.  Soon some communities were left almost emp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34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cropper’s House, North Caroli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whistonspirn.com, Dorothy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5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were lynchi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knowledgenew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Jacob Lawrence (American, 1917-2000) - The Migration Series (1940-41) - Panel no.15 - 'There were lynchings.' (title and text revised by the artist, 1993) - Casein tempera on hardboard - 12 x 18 in. The Phillips Collection, D.C., acquired 1942"/>
          <p:cNvPicPr/>
          <p:nvPr/>
        </p:nvPicPr>
        <p:blipFill>
          <a:blip r:embed="rId1"/>
          <a:stretch/>
        </p:blipFill>
        <p:spPr>
          <a:xfrm>
            <a:off x="1066680" y="1143000"/>
            <a:ext cx="66675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2:23:22Z</dcterms:created>
  <dc:creator>ACPS</dc:creator>
  <dc:description/>
  <dc:language>en-US</dc:language>
  <cp:lastModifiedBy>ACPS</cp:lastModifiedBy>
  <dcterms:modified xsi:type="dcterms:W3CDTF">2010-07-17T17:42:14Z</dcterms:modified>
  <cp:revision>19</cp:revision>
  <dc:subject/>
  <dc:title>The Great Migration</dc:title>
</cp:coreProperties>
</file>